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AAC1C-84EF-4949-9FAA-65F9922A4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F845B-2A33-4C1E-A40E-D82F216BD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7319A-AC72-406C-9D30-D46C31F9B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B2F82-D661-42AB-A7C5-61E50A7ED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C03F6-8276-4E82-A674-6350675F8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4D988-EADF-416D-ACF5-909B7A4BA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58BE2-FBA9-4338-BDB0-64AD75150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9B324-927D-4672-AAB4-F64674BCF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054C4-D814-429F-9C1F-F5A21DB80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E16EF-7728-4B7A-BD60-2B496869A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792C3-4472-4340-A01E-507787C4B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EA556-CB07-4007-A6F9-6773CA66E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DBF3-352D-4AC3-ADE3-2F8701C0F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ious Incident of the Dog in the Nighttim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4</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Christopher find out his mom is still al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looking for his book, comes across old letters written from his m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5</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Christopher do instead of hugging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5</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ses his hand against someone elses in a f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3 items found in Christophers pocket when he is taken to the police s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6</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zzle piece, swiss army knife, piece of string, 3 rat pellets, some money, red paper clip, ke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7</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one of the 2 reason Christopher finds people confu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7</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 lot with few words; they talk in metaph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8</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bject is Christopher excited about ta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8</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evel M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Characters</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837720"/>
            <a:ext cx="7772400" cy="5257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hristopher John Francis Boone</a:t>
            </a:r>
            <a:r>
              <a:rPr b="0" lang="en-US" sz="2400" spc="-1" strike="noStrike">
                <a:solidFill>
                  <a:srgbClr val="000000"/>
                </a:solidFill>
                <a:latin typeface="Times New Roman"/>
              </a:rPr>
              <a:t> – fifteen year old boy with asperger's syndrome and lives in a small town in England.</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d Boone</a:t>
            </a:r>
            <a:r>
              <a:rPr b="0" lang="en-US" sz="2400" spc="-1" strike="noStrike">
                <a:solidFill>
                  <a:srgbClr val="000000"/>
                </a:solidFill>
                <a:latin typeface="Times New Roman"/>
              </a:rPr>
              <a:t> – Christopher’s dad ,raises Christopher on his own.  Lies to Christopher about his mother.  He was also the murderer of Mr. Wellington.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Judy Boone</a:t>
            </a:r>
            <a:r>
              <a:rPr b="0" lang="en-US" sz="2400" spc="-1" strike="noStrike">
                <a:solidFill>
                  <a:srgbClr val="000000"/>
                </a:solidFill>
                <a:latin typeface="Times New Roman"/>
              </a:rPr>
              <a:t> - Christopher’s mom,Christopher thought that she was dead, but at the end of the story he left to find her.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r. Shears</a:t>
            </a:r>
            <a:r>
              <a:rPr b="0" lang="en-US" sz="2400" spc="-1" strike="noStrike">
                <a:solidFill>
                  <a:srgbClr val="000000"/>
                </a:solidFill>
                <a:latin typeface="Times New Roman"/>
              </a:rPr>
              <a:t>-  Had an affair with Christopher’s Mother.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rs. Alexander</a:t>
            </a:r>
            <a:r>
              <a:rPr b="0" lang="en-US" sz="2400" spc="-1" strike="noStrike">
                <a:solidFill>
                  <a:srgbClr val="000000"/>
                </a:solidFill>
                <a:latin typeface="Times New Roman"/>
              </a:rPr>
              <a:t>-  She told Christopher the truth about his mother.</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rs. Shears</a:t>
            </a:r>
            <a:r>
              <a:rPr b="0" lang="en-US" sz="2400" spc="-1" strike="noStrike">
                <a:solidFill>
                  <a:srgbClr val="000000"/>
                </a:solidFill>
                <a:latin typeface="Times New Roman"/>
              </a:rPr>
              <a:t>-  Has her dog killed, had affair with Chris’ dad.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Wellington</a:t>
            </a:r>
            <a:r>
              <a:rPr b="0" lang="en-US" sz="2400" spc="-1" strike="noStrike">
                <a:solidFill>
                  <a:srgbClr val="000000"/>
                </a:solidFill>
                <a:latin typeface="Times New Roman"/>
              </a:rPr>
              <a:t> – Mrs. Shears’ dog, a poodle, was killed at the beginning of the nov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9</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Wellington get killed wi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9</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rden F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0</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one of the things Christopher does when he gets angry or overwhelm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0</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reams, hits people, curls up into a b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1</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es Christopher hide on the train to Lond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1</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ggage Compart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2</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Christopher almost die at the subway s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2</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by escapes, Christopher almost gets hit by a subway c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3</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es Christopher like math so mu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3</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lways a definite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ot Overview</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opher John Francis Boone knows all the countries of the world and their capitals and every prime number up to 7,057.  He relates well to animals but has no understanding of human emotions.  He cannot stand to be touched.  And he detests the color yellow.  This improbable story of Christopher’s quest to investigate the suspicious death of a neighborhood dog makes for one of the most captivating, unusual, and widely heralded novels in 100 years.  </a:t>
            </a:r>
            <a:r>
              <a:rPr b="0" lang="en-US" sz="600" spc="-1" strike="noStrike">
                <a:solidFill>
                  <a:srgbClr val="000000"/>
                </a:solidFill>
                <a:latin typeface="Times New Roman"/>
              </a:rPr>
              <a:t>Quote by mark haddon</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4</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letters, what word does Christopher’s mom often use to describe his 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4</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5</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Christopher hit the police offic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5</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officer grabbed his a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9" name="borat_narrowweb__300x495,0" descr=""/>
          <p:cNvPicPr/>
          <p:nvPr/>
        </p:nvPicPr>
        <p:blipFill>
          <a:blip r:embed="rId1"/>
          <a:stretch/>
        </p:blipFill>
        <p:spPr>
          <a:xfrm>
            <a:off x="3352680" y="1447920"/>
            <a:ext cx="24940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lors does Christopher like/dislik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s Red, Dislikes Brown/Yel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2</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ecret does Ms. Alexander tell Christop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2</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mom had an affair with Mr. Shea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what kind of animal Christopher has and its n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3</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by; r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8:56:15Z</dcterms:created>
  <dc:creator>DU</dc:creator>
  <dc:description/>
  <dc:language>en-US</dc:language>
  <cp:lastModifiedBy>DU</cp:lastModifiedBy>
  <dcterms:modified xsi:type="dcterms:W3CDTF">2006-10-10T19:13:52Z</dcterms:modified>
  <cp:revision>2</cp:revision>
  <dc:subject/>
  <dc:title>Curious Incident</dc:title>
</cp:coreProperties>
</file>